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3C1-53E7-4FE3-B426-6CE666C6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8E3-AECA-4364-B29F-0197709D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5C0-A45C-450F-B988-3430316C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640-7064-4ADB-B765-072BE63F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4F8A-7A6C-4829-BB2F-0DA0A3C7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AEE2-5827-4833-9AF7-9C4801F0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A811-885E-4714-896A-1926AAC0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9C34-E9CD-4464-88F5-525D9039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DBB6-BB78-429E-A8A6-A684EB46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3ABB-093A-451B-85CD-6AE2AA08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5CC5-8CCE-4EB5-8FDA-C71A433A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41A-85F6-481E-A175-3F5FAAA5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843D-8478-4C85-9D9E-88582531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188A-DAFE-4BB5-8130-39BDE3DD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0F03-7D8A-4AF8-9D9D-3BCB2068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69B6-9AAB-4B64-9866-21C1FD43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4845-998F-481D-A634-288830E2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5A0-E0A3-48F0-BAB7-E08425A6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3E5-FC77-46ED-8B21-ED01DD71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7D5-D893-48DD-9906-1E6FC858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D80-5DEB-4683-A7EA-F9E2EFFE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939-C4BF-48DF-9DDF-CB8920FA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713-E8AD-460B-9FC9-39E6276B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6AA-9452-46A7-82CE-9F0C36A4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A40F-047B-4C28-8BE7-986BDC3656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41F8-6893-4951-8BA7-AC296CE9F38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51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Влияние подвижных игр на физическое развитие детей в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детском оздоровительном лагер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пускная квалификационная работ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тудента 407 групп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Бутусова А. П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Таблица 1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Дети, посещающие лагерь 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экспериментальная группа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1628640"/>
          <a:ext cx="8229600" cy="489132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792000"/>
                <a:gridCol w="720720"/>
                <a:gridCol w="576360"/>
                <a:gridCol w="647640"/>
                <a:gridCol w="719280"/>
                <a:gridCol w="720720"/>
                <a:gridCol w="792000"/>
                <a:gridCol w="720720"/>
                <a:gridCol w="812880"/>
              </a:tblGrid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начал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онц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среднеи по групп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Таблица 2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Дети, посещающие лагерь 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контрольная группа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1079640"/>
                <a:gridCol w="647640"/>
                <a:gridCol w="792000"/>
                <a:gridCol w="720720"/>
                <a:gridCol w="576360"/>
                <a:gridCol w="647640"/>
                <a:gridCol w="719280"/>
                <a:gridCol w="720720"/>
                <a:gridCol w="792000"/>
                <a:gridCol w="720720"/>
                <a:gridCol w="8128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начал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онц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среднеи по групп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4"/>
          <p:cNvGraphicFramePr/>
          <p:nvPr/>
        </p:nvGraphicFramePr>
        <p:xfrm>
          <a:off x="0" y="260280"/>
          <a:ext cx="9144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0" y="0"/>
          <a:ext cx="8964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6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целенаправленное применение подвижных игр положительно воздействует на формирование всех двигательных качест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использование расширенного объема подвижных игр способствует более высокому приросту двигательных качест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дети экспериментальной группы (посещающие оздоровительный лагерь) с увеличенным объемом подвижных игр превосходят детей контрольной группы (не посещающих оздоровительный лагерь) по темпам прироста показателей физической подготовленнос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Проблема исследования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заключается во влиянии подвижных игр на развитие детей и их личностных качеств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Цель исследования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Разработать и доказать эффективность  подвижных игр для развития детей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Объект исследования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роцесс развития личности средствами игровой деятельности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Предмет исследования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 –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влияние подвижных игр на физическое развитие детей в детском оздоровительном лагере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ть научную, научно-методическую и специальную  литературу по данной проблем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ть характеристику современного состояния применения игровой деятельности в развитии детей  в детском оздоровительном лагер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зработать комплекс  подвижных игр для  ДОЛ, способствующих процессу активного развития дете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явить значимость подвижных игр в развитии дете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Verdana"/>
              </a:rPr>
              <a:t>Гипотеза исследования: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Если разработать специальный комплекс подвижных игр для детского оздоровительного лагеря, то можно будет более эффективно организовать процесс развития дете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трольные упражнения 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г 60 мет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ыжки в длину с разбег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ыжки в высот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тание мяча 150 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тягивани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Мальчики на высокой перекладине из ви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Девочки на низкой перекладине из виса леж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Группы, принимающие участие в эксперимент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 Дети, посещающие лагерь (контрольная групп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Дети, не посещающие  лагерь. (экспериментальная групп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3:37:23Z</dcterms:created>
  <dc:creator>Таня</dc:creator>
  <dc:description/>
  <dc:language>en-US</dc:language>
  <cp:lastModifiedBy>Максим</cp:lastModifiedBy>
  <dcterms:modified xsi:type="dcterms:W3CDTF">2010-10-30T18:13:44Z</dcterms:modified>
  <cp:revision>8</cp:revision>
  <dc:subject/>
  <dc:title>Слайд 1</dc:title>
</cp:coreProperties>
</file>